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1"/>
          <p:cNvSpPr/>
          <p:nvPr/>
        </p:nvSpPr>
        <p:spPr>
          <a:xfrm>
            <a:off x="0" y="0"/>
            <a:ext cx="6991200" cy="9280440"/>
          </a:xfrm>
          <a:custGeom>
            <a:avLst/>
            <a:gdLst>
              <a:gd name="textAreaLeft" fmla="*/ 360 w 6991200"/>
              <a:gd name="textAreaRight" fmla="*/ 6990840 w 6991200"/>
              <a:gd name="textAreaTop" fmla="*/ 360 h 9280440"/>
              <a:gd name="textAreaBottom" fmla="*/ 9280080 h 9280440"/>
            </a:gdLst>
            <a:ahLst/>
            <a:rect l="textAreaLeft" t="textAreaTop" r="textAreaRight" b="textAreaBottom"/>
            <a:pathLst>
              <a:path w="21600" h="28672">
                <a:moveTo>
                  <a:pt x="4" y="0"/>
                </a:moveTo>
                <a:arcTo wR="4" hR="4" stAng="16200000" swAng="-5400000"/>
                <a:lnTo>
                  <a:pt x="0" y="28668"/>
                </a:lnTo>
                <a:arcTo wR="4" hR="4" stAng="10800000" swAng="-5400000"/>
                <a:lnTo>
                  <a:pt x="21596" y="2867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0" y="0"/>
            <a:ext cx="6991200" cy="9280440"/>
          </a:xfrm>
          <a:custGeom>
            <a:avLst/>
            <a:gdLst>
              <a:gd name="textAreaLeft" fmla="*/ 360 w 6991200"/>
              <a:gd name="textAreaRight" fmla="*/ 6990840 w 6991200"/>
              <a:gd name="textAreaTop" fmla="*/ 360 h 9280440"/>
              <a:gd name="textAreaBottom" fmla="*/ 9280080 h 9280440"/>
            </a:gdLst>
            <a:ahLst/>
            <a:rect l="textAreaLeft" t="textAreaTop" r="textAreaRight" b="textAreaBottom"/>
            <a:pathLst>
              <a:path w="21600" h="28672">
                <a:moveTo>
                  <a:pt x="4" y="0"/>
                </a:moveTo>
                <a:arcTo wR="4" hR="4" stAng="16200000" swAng="-5400000"/>
                <a:lnTo>
                  <a:pt x="0" y="28668"/>
                </a:lnTo>
                <a:arcTo wR="4" hR="4" stAng="10800000" swAng="-5400000"/>
                <a:lnTo>
                  <a:pt x="21596" y="2867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0" y="0"/>
            <a:ext cx="6991200" cy="9280440"/>
          </a:xfrm>
          <a:custGeom>
            <a:avLst/>
            <a:gdLst>
              <a:gd name="textAreaLeft" fmla="*/ 360 w 6991200"/>
              <a:gd name="textAreaRight" fmla="*/ 6990840 w 6991200"/>
              <a:gd name="textAreaTop" fmla="*/ 360 h 9280440"/>
              <a:gd name="textAreaBottom" fmla="*/ 9280080 h 9280440"/>
            </a:gdLst>
            <a:ahLst/>
            <a:rect l="textAreaLeft" t="textAreaTop" r="textAreaRight" b="textAreaBottom"/>
            <a:pathLst>
              <a:path w="21600" h="28672">
                <a:moveTo>
                  <a:pt x="4" y="0"/>
                </a:moveTo>
                <a:arcTo wR="4" hR="4" stAng="16200000" swAng="-5400000"/>
                <a:lnTo>
                  <a:pt x="0" y="28668"/>
                </a:lnTo>
                <a:arcTo wR="4" hR="4" stAng="10800000" swAng="-5400000"/>
                <a:lnTo>
                  <a:pt x="21596" y="2867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0" y="0"/>
            <a:ext cx="6991200" cy="9280440"/>
          </a:xfrm>
          <a:custGeom>
            <a:avLst/>
            <a:gdLst>
              <a:gd name="textAreaLeft" fmla="*/ 360 w 6991200"/>
              <a:gd name="textAreaRight" fmla="*/ 6990840 w 6991200"/>
              <a:gd name="textAreaTop" fmla="*/ 360 h 9280440"/>
              <a:gd name="textAreaBottom" fmla="*/ 9280080 h 9280440"/>
            </a:gdLst>
            <a:ahLst/>
            <a:rect l="textAreaLeft" t="textAreaTop" r="textAreaRight" b="textAreaBottom"/>
            <a:pathLst>
              <a:path w="21600" h="28672">
                <a:moveTo>
                  <a:pt x="4" y="0"/>
                </a:moveTo>
                <a:arcTo wR="4" hR="4" stAng="16200000" swAng="-5400000"/>
                <a:lnTo>
                  <a:pt x="0" y="28668"/>
                </a:lnTo>
                <a:arcTo wR="4" hR="4" stAng="10800000" swAng="-5400000"/>
                <a:lnTo>
                  <a:pt x="21596" y="2867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25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3962520" y="0"/>
            <a:ext cx="30225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3920" cy="34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31680" y="4408200"/>
            <a:ext cx="5121000" cy="4172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3"/>
          </p:nvPr>
        </p:nvSpPr>
        <p:spPr>
          <a:xfrm>
            <a:off x="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4"/>
          </p:nvPr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6DFFD-9A8D-4986-810C-8DDA38139E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32F8B-A9E8-43E5-B90C-80BF437870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1187280" y="701640"/>
            <a:ext cx="4618080" cy="34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50400" y="4436640"/>
            <a:ext cx="5085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is primer is intended for those who are unfamiliar with Python. Students who have used Python will skip this le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his presentation contains no additional notes. The instructor must be familiar with Python in order to be effe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200CA-194F-4157-AEDB-E5B12971EF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9BDE2-5BE4-45AD-8C0C-140FC37EE2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986B4-83D9-4A76-A903-69D6EA9543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4A4DB-D275-4C99-8A3F-F833AFBB42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0AA99-7804-4189-A424-61DCEEEB8D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4C609-051E-40C9-B4EC-580C4D5DB3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4E6CF-8B71-4346-84E4-386FBEBAEE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0B4F9-76B6-4528-A2C4-6F447A4FB6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A3CBE-D65D-42A4-B02D-614E1BCB0D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B244E-506D-47A3-802F-7D9C7EF5D8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A9DD1-5921-4DA3-9C4B-94D963DDAF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ECFAF-9B3C-442F-9680-87CECE942A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94DDB-D139-486A-B1A2-82B668FA0B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4FE6A-CBFE-4328-9EB9-4113EC06C0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7AE04-D4A5-4961-8EE8-40F4252EEB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E16C9-F3C3-4592-96D7-2EFD9DFA42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77CF1-4B8C-4640-94D8-02345F0A2E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8BDAD-CF0B-4D47-8463-A5E164E434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1187280" y="701640"/>
            <a:ext cx="4618080" cy="34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B6D23-2370-4213-A140-EECB5BF759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6966B-A55F-4F15-8912-F1EA719BFD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F545D-C5A5-454A-9815-C9A1186A04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AAEC0-136A-438D-B0AC-DFEDBA6BC8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F54B7-1FD4-4756-84B0-1FC65FF572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A02EF-4178-423B-96E3-12AE9FAAB7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0"/>
          <p:cNvSpPr/>
          <p:nvPr/>
        </p:nvSpPr>
        <p:spPr>
          <a:xfrm>
            <a:off x="3962520" y="8818560"/>
            <a:ext cx="3022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1F87A-FE03-4A6A-A1D2-F7CFC4591D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1187280" y="701640"/>
            <a:ext cx="461664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32040" y="4408200"/>
            <a:ext cx="51228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7040" y="311040"/>
            <a:ext cx="6784920" cy="84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7040" y="311040"/>
            <a:ext cx="6784920" cy="84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7040" y="311040"/>
            <a:ext cx="6784920" cy="84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7040" y="311040"/>
            <a:ext cx="6784920" cy="84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6680" indent="0" algn="ctr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7040" y="311040"/>
            <a:ext cx="6784920" cy="84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7040" y="311040"/>
            <a:ext cx="6784920" cy="84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7040" y="311040"/>
            <a:ext cx="6784920" cy="84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7040" y="311040"/>
            <a:ext cx="6784920" cy="39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6680" algn="ctr">
              <a:lnSpc>
                <a:spcPct val="76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7040" y="311040"/>
            <a:ext cx="6784920" cy="84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7040" y="311040"/>
            <a:ext cx="6784920" cy="84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7040" y="311040"/>
            <a:ext cx="6784920" cy="84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6600" indent="-169920">
              <a:lnSpc>
                <a:spcPct val="76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6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76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6840" indent="-165240">
              <a:lnSpc>
                <a:spcPct val="76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6800" indent="-108000">
              <a:lnSpc>
                <a:spcPct val="76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6800" indent="-108000">
              <a:lnSpc>
                <a:spcPct val="76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6800" indent="-108000">
              <a:lnSpc>
                <a:spcPct val="76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577960" cy="1473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157040" y="311040"/>
            <a:ext cx="6784920" cy="84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17800" cy="4446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5" descr=""/>
          <p:cNvPicPr/>
          <p:nvPr/>
        </p:nvPicPr>
        <p:blipFill>
          <a:blip r:embed="rId4"/>
          <a:stretch/>
        </p:blipFill>
        <p:spPr>
          <a:xfrm>
            <a:off x="76320" y="6426360"/>
            <a:ext cx="2527200" cy="444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ython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vex.net/parnassus/" TargetMode="External"/><Relationship Id="rId2" Type="http://schemas.openxmlformats.org/officeDocument/2006/relationships/hyperlink" Target="http://www.python.org/" TargetMode="External"/><Relationship Id="rId3" Type="http://schemas.openxmlformats.org/officeDocument/2006/relationships/hyperlink" Target="http://www.wiley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4960" y="2144520"/>
            <a:ext cx="7532640" cy="14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ython Prim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69520" y="3909600"/>
            <a:ext cx="620244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From “</a:t>
            </a:r>
            <a:r>
              <a:rPr b="0" i="1" lang="en-GB" sz="2100" spc="-1" strike="noStrike">
                <a:solidFill>
                  <a:srgbClr val="000000"/>
                </a:solidFill>
                <a:latin typeface="Arial"/>
              </a:rPr>
              <a:t>Python 2.1 Bible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Dave Brueck and Stephen Tanner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Python in an Hour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ranching with if-stat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1146240" y="1954080"/>
            <a:ext cx="6235560" cy="2219400"/>
          </a:xfrm>
          <a:prstGeom prst="roundRect">
            <a:avLst>
              <a:gd name="adj" fmla="val 6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28400" y="2014560"/>
            <a:ext cx="584532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if (MyNumber % 2 == 0)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print “MyNumber is Even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print “MyNumber is very Odd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ile Loo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"/>
          <p:cNvSpPr/>
          <p:nvPr/>
        </p:nvSpPr>
        <p:spPr>
          <a:xfrm>
            <a:off x="1060560" y="2122560"/>
            <a:ext cx="6649920" cy="2219400"/>
          </a:xfrm>
          <a:prstGeom prst="roundRect">
            <a:avLst>
              <a:gd name="adj" fmla="val 6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27160" y="1941480"/>
            <a:ext cx="6649920" cy="26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# Print out powers of 2 less than 2000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x=2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while (x&lt;2000)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print x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x=x*2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"/>
          <p:cNvSpPr/>
          <p:nvPr/>
        </p:nvSpPr>
        <p:spPr>
          <a:xfrm>
            <a:off x="542880" y="2971800"/>
            <a:ext cx="8085240" cy="2286000"/>
          </a:xfrm>
          <a:prstGeom prst="roundRect">
            <a:avLst>
              <a:gd name="adj" fmla="val 74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52240" y="2019240"/>
            <a:ext cx="8110440" cy="30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A list is an ordered collection of zero or more elements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Elements can be any object typ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rstList = [1, 3, 5, 7, 12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condList = [1, 3, 5, ”Hello World”] # mixed typ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irdList = [1, 3, SecondList] # can contain li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urthList =[1, 3, ] # trailing commas are ok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fthList = [ ] # empty l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up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"/>
          <p:cNvSpPr/>
          <p:nvPr/>
        </p:nvSpPr>
        <p:spPr>
          <a:xfrm>
            <a:off x="685800" y="3429000"/>
            <a:ext cx="8085240" cy="1413000"/>
          </a:xfrm>
          <a:prstGeom prst="roundRect">
            <a:avLst>
              <a:gd name="adj" fmla="val 9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60240" y="2036520"/>
            <a:ext cx="8110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Tuples are similar to lists, but are not changeabl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Enclose tuples in parentheses instead of brackets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rstTuple = (“orange”, “red”, “blue”, “yellow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condTuple = () # empty tu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irdTuple = (14, ) #comma is required in this c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sts are Order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"/>
          <p:cNvSpPr/>
          <p:nvPr/>
        </p:nvSpPr>
        <p:spPr>
          <a:xfrm>
            <a:off x="830160" y="3025800"/>
            <a:ext cx="6443640" cy="2622600"/>
          </a:xfrm>
          <a:prstGeom prst="roundRect">
            <a:avLst>
              <a:gd name="adj" fmla="val 51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04600" y="2038320"/>
            <a:ext cx="752940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Each element has an index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Index counting starts at '0'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ColorList = [“orange”, “red”, “blue”]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&gt;&gt;&gt; ColorList[0]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'orange'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&gt;&gt;&gt; ColorList[2] = “purple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&gt;&gt;&gt; ColorLis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['orange', 'red', 'purple']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bli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"/>
          <p:cNvSpPr/>
          <p:nvPr/>
        </p:nvSpPr>
        <p:spPr>
          <a:xfrm>
            <a:off x="831960" y="3227400"/>
            <a:ext cx="7169040" cy="1008000"/>
          </a:xfrm>
          <a:prstGeom prst="roundRect">
            <a:avLst>
              <a:gd name="adj" fmla="val 139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04600" y="2038320"/>
            <a:ext cx="752940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Access a sublist with the syntax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listname[start:end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ListOne = [“I”, “am”, “a”, “happy”, “camper”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&gt;&gt;&gt; ListOne[0:2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['I', 'am' 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100" spc="-1" strike="noStrike">
                <a:solidFill>
                  <a:srgbClr val="000000"/>
                </a:solidFill>
                <a:latin typeface="Arial"/>
              </a:rPr>
              <a:t>Notice the end range will grab up to but not including the range valu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bstr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"/>
          <p:cNvSpPr/>
          <p:nvPr/>
        </p:nvSpPr>
        <p:spPr>
          <a:xfrm>
            <a:off x="831960" y="3025800"/>
            <a:ext cx="6858000" cy="1816200"/>
          </a:xfrm>
          <a:prstGeom prst="roundRect">
            <a:avLst>
              <a:gd name="adj" fmla="val 74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782280" y="1834920"/>
            <a:ext cx="7529400" cy="34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Lists, tuples, and strings are </a:t>
            </a:r>
            <a:r>
              <a:rPr b="1" i="1" lang="en-GB" sz="2100" spc="-1" strike="noStrike">
                <a:solidFill>
                  <a:srgbClr val="000000"/>
                </a:solidFill>
                <a:latin typeface="Arial"/>
              </a:rPr>
              <a:t>sequence types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Sequence types support indexed access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&gt;&gt;&gt; word = “pig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&gt;&gt;&gt; PigLatinWord = word[1:]+word[0]+”ay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&gt;&gt;&gt; PigLatinWord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Courier New"/>
              </a:rPr>
              <a:t>'igpay'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ctiona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4600" y="2038320"/>
            <a:ext cx="752940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ctionary is a python object that cross-references keys to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eys are immu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alues can be any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ma-separated list of key-value pairs, enclosed in curly braces: {key:value, key:value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ctionary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"/>
          <p:cNvSpPr/>
          <p:nvPr/>
        </p:nvSpPr>
        <p:spPr>
          <a:xfrm>
            <a:off x="349200" y="2514600"/>
            <a:ext cx="8458200" cy="1922400"/>
          </a:xfrm>
          <a:prstGeom prst="roundRect">
            <a:avLst>
              <a:gd name="adj" fmla="val 74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48840" y="2076120"/>
            <a:ext cx="8458200" cy="27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PhoneDict = {“bob”:”555-1212”, “fred”:”555-1234”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EmptyDict = {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PhoneDict[“bob”]  # find bob's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'555-1212'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PhoneDict[“cindy”] = “555-4321”  # add ent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afe Dictionary Looku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"/>
          <p:cNvSpPr/>
          <p:nvPr/>
        </p:nvSpPr>
        <p:spPr>
          <a:xfrm>
            <a:off x="685800" y="2057400"/>
            <a:ext cx="7626240" cy="765000"/>
          </a:xfrm>
          <a:prstGeom prst="roundRect">
            <a:avLst>
              <a:gd name="adj" fmla="val 231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830160" y="3630600"/>
            <a:ext cx="5342040" cy="1008000"/>
          </a:xfrm>
          <a:prstGeom prst="roundRect">
            <a:avLst>
              <a:gd name="adj" fmla="val 139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04600" y="2036520"/>
            <a:ext cx="75294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&gt;&gt;&gt; PhoneDict[“sam”]  # will raise an excep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A better method is to use the </a:t>
            </a:r>
            <a:r>
              <a:rPr b="1" i="1" lang="en-GB" sz="2100" spc="-1" strike="noStrike">
                <a:solidFill>
                  <a:srgbClr val="000000"/>
                </a:solidFill>
                <a:latin typeface="Courier New"/>
              </a:rPr>
              <a:t>dictionary.get(key, default)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&gt;&gt;&gt; PhoneDict.get(“sam”, Non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Non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ython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04600" y="2038320"/>
            <a:ext cx="752940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python.or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(this points to everything els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ython 2.1 B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1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ublished by Hungry Minds, Inc (www.wiley.com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1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ritten by Dave Brueck and Stephan Tann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3532320" y="4840200"/>
            <a:ext cx="4073400" cy="10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ctionary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61880" y="1008000"/>
            <a:ext cx="7643880" cy="47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ading and Writing Fi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14000" y="1008000"/>
            <a:ext cx="752940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Use the function </a:t>
            </a:r>
            <a:r>
              <a:rPr b="1" i="1" lang="en-GB" sz="2100" spc="-1" strike="noStrike">
                <a:solidFill>
                  <a:srgbClr val="000000"/>
                </a:solidFill>
                <a:latin typeface="Courier New"/>
              </a:rPr>
              <a:t>open(filename, mode)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Mode is a string of typical values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'w' for writing, 'r' for reading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Then use </a:t>
            </a:r>
            <a:r>
              <a:rPr b="1" i="1" lang="en-GB" sz="2100" spc="-1" strike="noStrike">
                <a:solidFill>
                  <a:srgbClr val="000000"/>
                </a:solidFill>
                <a:latin typeface="Courier New"/>
              </a:rPr>
              <a:t>read()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GB" sz="2100" spc="-1" strike="noStrike">
                <a:solidFill>
                  <a:srgbClr val="000000"/>
                </a:solidFill>
                <a:latin typeface="Courier New"/>
              </a:rPr>
              <a:t>write()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GB" sz="2100" spc="-1" strike="noStrike">
                <a:solidFill>
                  <a:srgbClr val="000000"/>
                </a:solidFill>
                <a:latin typeface="Courier New"/>
              </a:rPr>
              <a:t>close(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1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623880" y="2498760"/>
            <a:ext cx="7273800" cy="375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bject-Oriented Pyth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04600" y="1411200"/>
            <a:ext cx="7529400" cy="48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ython is object-ori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1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very piece of data in python is an objec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s an abstraction of common data and behavi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instance of a class is an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Define a class with class ClassN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1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Courier New"/>
              </a:rPr>
              <a:t>&gt;&gt;&gt; class Fo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Define a child class with class ClassName(Pare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1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Courier New"/>
              </a:rPr>
              <a:t>&gt;&gt;&gt; class FooChild(Fo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reate an object with NewObject = ClassName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lass constructor is</a:t>
            </a:r>
            <a:r>
              <a:rPr b="1" i="1" lang="en-GB" sz="2400" spc="-1" strike="noStrike">
                <a:solidFill>
                  <a:srgbClr val="000000"/>
                </a:solidFill>
                <a:latin typeface="Courier New"/>
              </a:rPr>
              <a:t> __init__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ython's </a:t>
            </a:r>
            <a:r>
              <a:rPr b="1" i="1" lang="en-GB" sz="2400" spc="-1" strike="noStrike">
                <a:solidFill>
                  <a:srgbClr val="000000"/>
                </a:solidFill>
                <a:latin typeface="Courier New"/>
              </a:rPr>
              <a:t>self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is similar to C++/Java </a:t>
            </a:r>
            <a:r>
              <a:rPr b="1" i="1" lang="en-GB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ll class attributes and methods are publ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mple Class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"/>
          <p:cNvSpPr/>
          <p:nvPr/>
        </p:nvSpPr>
        <p:spPr>
          <a:xfrm>
            <a:off x="415800" y="1008000"/>
            <a:ext cx="7898040" cy="5392800"/>
          </a:xfrm>
          <a:prstGeom prst="roundRect">
            <a:avLst>
              <a:gd name="adj" fmla="val 28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558720" y="1166760"/>
            <a:ext cx="7442280" cy="53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mport ma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# declare a cl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lass Poi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ef __init__(self,x,y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elf.x =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elf.y =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ef DistanceToPoint(self, OtherPoint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umOfSquares = ((self.x - OtherPoint.x)**2) +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(self.y - OtherPoint.y)**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return math.sqrt(SumOfSquar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ef IsInsideCircle(self, center, radiu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f (self.DistanceToPoint(center) &lt; radiu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return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return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mple Class Example Outp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461880" y="1076400"/>
            <a:ext cx="7643880" cy="47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ommended Lin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04600" y="2038320"/>
            <a:ext cx="752940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bunch of nice, finished programs to tinker w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1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www.vex.net/parnassus/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mother s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1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ww.python.or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ython 2.1 B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1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ave Brueck, Stephen Tann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1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ublished by Hungry Minds, In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1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wile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4006800" y="1181160"/>
            <a:ext cx="4253040" cy="30337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48840" y="125280"/>
            <a:ext cx="6581880" cy="82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abling the Script Tab from Cub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0760" y="1017720"/>
            <a:ext cx="3797640" cy="351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26880" indent="-160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lect Tools – Options – Layout – Cubit Lay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160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lect “Show Script Tab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160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script tab will allow direct entry of python comman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961920" y="4649760"/>
            <a:ext cx="6489720" cy="13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ython 10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4600" y="2038320"/>
            <a:ext cx="752940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o to python directory, or include python in your 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ype 'python'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'&gt;&gt;&gt;' is the python prom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&gt; print “hello world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160200">
              <a:lnSpc>
                <a:spcPct val="81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it interpreter with end-of-file charac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1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ntrl-Z on Window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81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444600"/>
                <a:tab algn="l" pos="901800"/>
                <a:tab algn="l" pos="1359000"/>
                <a:tab algn="l" pos="1816200"/>
                <a:tab algn="l" pos="2273400"/>
                <a:tab algn="l" pos="2730600"/>
                <a:tab algn="l" pos="3187800"/>
                <a:tab algn="l" pos="3645000"/>
                <a:tab algn="l" pos="4102200"/>
                <a:tab algn="l" pos="4559400"/>
                <a:tab algn="l" pos="5016600"/>
                <a:tab algn="l" pos="5473800"/>
                <a:tab algn="l" pos="5931000"/>
                <a:tab algn="l" pos="6388200"/>
                <a:tab algn="l" pos="6845400"/>
                <a:tab algn="l" pos="7302600"/>
                <a:tab algn="l" pos="7759800"/>
                <a:tab algn="l" pos="8217000"/>
                <a:tab algn="l" pos="8674200"/>
                <a:tab algn="l" pos="9131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ntrl-I on Linux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14360" y="1039680"/>
            <a:ext cx="7678800" cy="48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lculator &amp; 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31640" y="1112760"/>
            <a:ext cx="7643880" cy="47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ython is Case-Sensi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31640" y="1112760"/>
            <a:ext cx="7643880" cy="47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ng a Function – Indentation Mat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65120" y="1112760"/>
            <a:ext cx="7643880" cy="47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ython Control and Loo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"/>
          <p:cNvSpPr/>
          <p:nvPr/>
        </p:nvSpPr>
        <p:spPr>
          <a:xfrm>
            <a:off x="558720" y="1035000"/>
            <a:ext cx="7689960" cy="4908600"/>
          </a:xfrm>
          <a:prstGeom prst="roundRect">
            <a:avLst>
              <a:gd name="adj" fmla="val 28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27200" y="1101600"/>
            <a:ext cx="7731000" cy="45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# Find the prime numbers between a specified r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# Loop over the numbers in the r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or PrimeTest in range(2, 12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# Assume PrimeTest prime until proven otherw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# 0 is false, non-zero is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sPrime = 1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or TestFactor in range(2, (PrimeTest - 1)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# a % b equals the remainder of a/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f (PrimeTest % TestFactor == 0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sPrime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reak   # exit the inner most lo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f (isPrime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rint Prime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Date Placeholder 2"/>
          <p:cNvSpPr/>
          <p:nvPr/>
        </p:nvSpPr>
        <p:spPr>
          <a:xfrm>
            <a:off x="6248520" y="6504120"/>
            <a:ext cx="147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UBIT User Tuto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2160" y="136080"/>
            <a:ext cx="6578640" cy="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imeFinder.py Outp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414360" y="1411200"/>
            <a:ext cx="7643880" cy="4773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wen, Steven James</dc:creator>
  <dc:description/>
  <dc:language>en-US</dc:language>
  <cp:lastModifiedBy>Owen, Steven James</cp:lastModifiedBy>
  <dcterms:modified xsi:type="dcterms:W3CDTF">2013-07-17T13:57:40Z</dcterms:modified>
  <cp:revision>1</cp:revision>
  <dc:subject/>
  <dc:title>Python Primer</dc:title>
</cp:coreProperties>
</file>